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435-E81C-471C-BB20-AE63E4BD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DD4-9C6F-4862-B73C-E8FCAB07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499-0C1D-4014-9AA7-B310F021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F34-6179-4389-8011-5CCEE16B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22D-110D-4DFB-BD3C-91D6621C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768-AA07-4B61-86C2-1D4F2782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95F-680C-458E-9E7E-C844D261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8E2-B071-4513-9E87-FBCCB21A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C8A-2E03-4FDE-80A3-06731A34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88A-FBE5-4445-B891-6F81D277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82A-C044-4496-87BE-70F5C81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9F9-EE09-4AF1-9E15-EBE722D0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0C64-9CFF-4609-8906-249B61CBB4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yan.scarydevil.com/~peter/works/BlueSkies/BlueSkies/index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What_A_Wonderful_World.mp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stephenreece.com/Images/Pictures/Green%20Trees%201280.jpg"/>
          <p:cNvPicPr/>
          <p:nvPr/>
        </p:nvPicPr>
        <p:blipFill>
          <a:blip r:embed="rId2"/>
          <a:stretch/>
        </p:blipFill>
        <p:spPr>
          <a:xfrm>
            <a:off x="142920" y="-214200"/>
            <a:ext cx="9467640" cy="757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lynaveryphotography.net/imgs/onefamily/480px/SV_OldFriendsReunionMoscow-1.jpg"/>
          <p:cNvPicPr/>
          <p:nvPr/>
        </p:nvPicPr>
        <p:blipFill>
          <a:blip r:embed="rId1"/>
          <a:stretch/>
        </p:blipFill>
        <p:spPr>
          <a:xfrm>
            <a:off x="-608040" y="-71280"/>
            <a:ext cx="975204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andling a crying child"/>
          <p:cNvPicPr/>
          <p:nvPr/>
        </p:nvPicPr>
        <p:blipFill>
          <a:blip r:embed="rId1"/>
          <a:stretch/>
        </p:blipFill>
        <p:spPr>
          <a:xfrm>
            <a:off x="0" y="-3571920"/>
            <a:ext cx="9144000" cy="1138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greenhealthinformation.com/wp-content/pic/healthy_children.jpg"/>
          <p:cNvPicPr/>
          <p:nvPr/>
        </p:nvPicPr>
        <p:blipFill>
          <a:blip r:embed="rId1"/>
          <a:stretch/>
        </p:blipFill>
        <p:spPr>
          <a:xfrm>
            <a:off x="-30240" y="0"/>
            <a:ext cx="965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hitneymcd7.files.wordpress.com/2008/04/northern-lights.jpg"/>
          <p:cNvPicPr/>
          <p:nvPr/>
        </p:nvPicPr>
        <p:blipFill>
          <a:blip r:embed="rId1"/>
          <a:stretch/>
        </p:blipFill>
        <p:spPr>
          <a:xfrm>
            <a:off x="-71280" y="-71280"/>
            <a:ext cx="973440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g.dailymail.co.uk/i/pix/2007/10_04/PlanetG3110_468x377.jpg"/>
          <p:cNvPicPr/>
          <p:nvPr/>
        </p:nvPicPr>
        <p:blipFill>
          <a:blip r:embed="rId1"/>
          <a:stretch/>
        </p:blipFill>
        <p:spPr>
          <a:xfrm>
            <a:off x="-142920" y="0"/>
            <a:ext cx="9636120" cy="776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What_A_Wonderful_World.mp3" descr=""/>
          <p:cNvPicPr/>
          <p:nvPr/>
        </p:nvPicPr>
        <p:blipFill>
          <a:blip r:embed="rId1"/>
          <a:stretch/>
        </p:blipFill>
        <p:spPr>
          <a:xfrm>
            <a:off x="214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85840" y="185724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OR IS IT??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lizasreef.com/HOPE%20FOR%20THE%20RAIN%20FORESTS/images/7242.jpg"/>
          <p:cNvPicPr/>
          <p:nvPr/>
        </p:nvPicPr>
        <p:blipFill>
          <a:blip r:embed="rId1"/>
          <a:stretch/>
        </p:blipFill>
        <p:spPr>
          <a:xfrm>
            <a:off x="-366840" y="0"/>
            <a:ext cx="979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media3.washingtonpost.com/wp-srv/photo/gallery/090924/GAL-09Sep24-2682/media/PHO-09Sep24-179220.jpg"/>
          <p:cNvPicPr/>
          <p:nvPr/>
        </p:nvPicPr>
        <p:blipFill>
          <a:blip r:embed="rId1"/>
          <a:stretch/>
        </p:blipFill>
        <p:spPr>
          <a:xfrm>
            <a:off x="-1020600" y="-138240"/>
            <a:ext cx="10164600" cy="69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supergreenme.com/data/images/27/500x333_Polluted-river-Kathmandu-Nepal-sml.JPG"/>
          <p:cNvPicPr/>
          <p:nvPr/>
        </p:nvPicPr>
        <p:blipFill>
          <a:blip r:embed="rId1"/>
          <a:stretch/>
        </p:blipFill>
        <p:spPr>
          <a:xfrm>
            <a:off x="0" y="0"/>
            <a:ext cx="9406080" cy="705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http://graphics8.nytimes.com/images/2008/07/07/world/07china-span-600.jpg"/>
          <p:cNvPicPr/>
          <p:nvPr/>
        </p:nvPicPr>
        <p:blipFill>
          <a:blip r:embed="rId1"/>
          <a:stretch/>
        </p:blipFill>
        <p:spPr>
          <a:xfrm>
            <a:off x="-571680" y="0"/>
            <a:ext cx="1013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farm4.static.flickr.com/3086/2301099942_7349d63784.jpg"/>
          <p:cNvPicPr/>
          <p:nvPr/>
        </p:nvPicPr>
        <p:blipFill>
          <a:blip r:embed="rId1"/>
          <a:stretch/>
        </p:blipFill>
        <p:spPr>
          <a:xfrm>
            <a:off x="63360" y="-136440"/>
            <a:ext cx="9326880" cy="69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://www.sedet.es/imagenes/noticias/200509190631330.jpg"/>
          <p:cNvPicPr/>
          <p:nvPr/>
        </p:nvPicPr>
        <p:blipFill>
          <a:blip r:embed="rId1"/>
          <a:stretch/>
        </p:blipFill>
        <p:spPr>
          <a:xfrm>
            <a:off x="-500040" y="0"/>
            <a:ext cx="10199520" cy="707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children.foreignpolicyblogs.com/files/2007/05/187-02-street-children-philippines-from-hobo-traveler.jpg"/>
          <p:cNvPicPr/>
          <p:nvPr/>
        </p:nvPicPr>
        <p:blipFill>
          <a:blip r:embed="rId1"/>
          <a:stretch/>
        </p:blipFill>
        <p:spPr>
          <a:xfrm>
            <a:off x="-71280" y="142920"/>
            <a:ext cx="9305640" cy="696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media.ebaumsworld.com/mediaFiles/picture/480397/80523466.jpg"/>
          <p:cNvPicPr/>
          <p:nvPr/>
        </p:nvPicPr>
        <p:blipFill>
          <a:blip r:embed="rId1"/>
          <a:stretch/>
        </p:blipFill>
        <p:spPr>
          <a:xfrm>
            <a:off x="0" y="-2643120"/>
            <a:ext cx="9144000" cy="108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underwatertimes.com/news3/oil_spill_chuuk_lago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Orphanage children"/>
          <p:cNvPicPr/>
          <p:nvPr/>
        </p:nvPicPr>
        <p:blipFill>
          <a:blip r:embed="rId1"/>
          <a:stretch/>
        </p:blipFill>
        <p:spPr>
          <a:xfrm>
            <a:off x="6336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Orphanage children"/>
          <p:cNvPicPr/>
          <p:nvPr/>
        </p:nvPicPr>
        <p:blipFill>
          <a:blip r:embed="rId2"/>
          <a:stretch/>
        </p:blipFill>
        <p:spPr>
          <a:xfrm>
            <a:off x="6336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rphanage children"/>
          <p:cNvPicPr/>
          <p:nvPr/>
        </p:nvPicPr>
        <p:blipFill>
          <a:blip r:embed="rId3"/>
          <a:stretch/>
        </p:blipFill>
        <p:spPr>
          <a:xfrm>
            <a:off x="6336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travelblog.org/pix/shim.gif"/>
          <p:cNvPicPr/>
          <p:nvPr/>
        </p:nvPicPr>
        <p:blipFill>
          <a:blip r:embed="rId4"/>
          <a:stretch/>
        </p:blipFill>
        <p:spPr>
          <a:xfrm>
            <a:off x="6336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www.worldofstock.com/slides/PCH4717.jpg"/>
          <p:cNvPicPr/>
          <p:nvPr/>
        </p:nvPicPr>
        <p:blipFill>
          <a:blip r:embed="rId5"/>
          <a:stretch/>
        </p:blipFill>
        <p:spPr>
          <a:xfrm>
            <a:off x="-79200" y="-144360"/>
            <a:ext cx="9080280" cy="70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http://i.dailymail.co.uk/i/pix/2010/01/15/article-1243176-07DCC84F000005DC-322_634x457.jpg"/>
          <p:cNvPicPr/>
          <p:nvPr/>
        </p:nvPicPr>
        <p:blipFill>
          <a:blip r:embed="rId1"/>
          <a:stretch/>
        </p:blipFill>
        <p:spPr>
          <a:xfrm>
            <a:off x="-322200" y="0"/>
            <a:ext cx="9513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ttp://babble.com/CS/blogs/strollerderby/2008/11/23-End/asthma.jpg"/>
          <p:cNvPicPr/>
          <p:nvPr/>
        </p:nvPicPr>
        <p:blipFill>
          <a:blip r:embed="rId1"/>
          <a:stretch/>
        </p:blipFill>
        <p:spPr>
          <a:xfrm>
            <a:off x="-214200" y="0"/>
            <a:ext cx="10634400" cy="71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wcc-coe.org/wcc/what/jpc/echoes/pictures/bw27-fil.jpg"/>
          <p:cNvPicPr/>
          <p:nvPr/>
        </p:nvPicPr>
        <p:blipFill>
          <a:blip r:embed="rId1"/>
          <a:stretch/>
        </p:blipFill>
        <p:spPr>
          <a:xfrm>
            <a:off x="1649520" y="-1209600"/>
            <a:ext cx="5637240" cy="821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cobbers.com/wp-content/uploads/2006/10/polluted-sk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trekway.com/united-arab-emirates/images/EAU04_321-pollu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ucsb.piscoweb.org/~blanchet/images/globe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70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If we don’t look after our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Calibri"/>
              </a:rPr>
              <a:t>Who will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cyan.scarydevil.com/~peter/works/BlueSkies/BlueSkies/Sky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unny Day"/>
          <p:cNvPicPr/>
          <p:nvPr/>
        </p:nvPicPr>
        <p:blipFill>
          <a:blip r:embed="rId1"/>
          <a:stretch/>
        </p:blipFill>
        <p:spPr>
          <a:xfrm>
            <a:off x="0" y="-279360"/>
            <a:ext cx="9144000" cy="718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pdphoto.org/jons/pictures/night_2_bg_050602.jpg"/>
          <p:cNvPicPr/>
          <p:nvPr/>
        </p:nvPicPr>
        <p:blipFill>
          <a:blip r:embed="rId1"/>
          <a:stretch/>
        </p:blipFill>
        <p:spPr>
          <a:xfrm>
            <a:off x="-71280" y="-5400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aqua-ca.com/images/coral%20reef%20wiki.jpg"/>
          <p:cNvPicPr/>
          <p:nvPr/>
        </p:nvPicPr>
        <p:blipFill>
          <a:blip r:embed="rId1"/>
          <a:stretch/>
        </p:blipFill>
        <p:spPr>
          <a:xfrm>
            <a:off x="-369720" y="0"/>
            <a:ext cx="1027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ainbow.jpg"/>
          <p:cNvPicPr/>
          <p:nvPr/>
        </p:nvPicPr>
        <p:blipFill>
          <a:blip r:embed="rId1"/>
          <a:stretch/>
        </p:blipFill>
        <p:spPr>
          <a:xfrm>
            <a:off x="142920" y="-1095480"/>
            <a:ext cx="9001080" cy="90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takejuice2.com/resources/multicultural_kiddos1.jpg"/>
          <p:cNvPicPr/>
          <p:nvPr/>
        </p:nvPicPr>
        <p:blipFill>
          <a:blip r:embed="rId1"/>
          <a:stretch/>
        </p:blipFill>
        <p:spPr>
          <a:xfrm>
            <a:off x="-330120" y="-142920"/>
            <a:ext cx="10510920" cy="700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8:01:36Z</dcterms:created>
  <dc:creator>Trudie</dc:creator>
  <dc:description/>
  <dc:language>en-US</dc:language>
  <cp:lastModifiedBy>ICT Department</cp:lastModifiedBy>
  <dcterms:modified xsi:type="dcterms:W3CDTF">2014-01-07T08:29:20Z</dcterms:modified>
  <cp:revision>56</cp:revision>
  <dc:subject/>
  <dc:title>Slide 1</dc:title>
</cp:coreProperties>
</file>